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904D-937D-444D-BD71-416388F3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CA34-DED9-41E2-A34E-9F659CB8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7F9E-B9B0-477B-9DFA-FC2BB856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FF39-EDBE-45AD-8ADA-4232F508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1FC5-1ECE-4FEF-A894-46C48E0F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B805-2720-470A-80DA-121A0D7D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B5FF-788B-44CD-BD28-18F82EB2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305F-788B-4D97-908A-287EF10D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6F50-8068-4E35-954C-AD49A172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607F-CF02-4DB9-A21B-226C6B27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A3A0-C7F3-44DD-8E02-710D60C0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EEBC-AA14-4CD4-BD35-AC96ADA4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D43C-6B22-48B6-BD1F-002FF9F659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-252360" y="1628640"/>
            <a:ext cx="91440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solidFill>
                  <a:srgbClr val="a50021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_Alterna"/>
              </a:rPr>
              <a:t>Элементы</a:t>
            </a:r>
            <a:endParaRPr b="1" i="1" lang="en-US" sz="3200" spc="1" strike="noStrike">
              <a:ln w="0">
                <a:noFill/>
              </a:ln>
              <a:solidFill>
                <a:srgbClr val="a50021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_Alterna"/>
              <a:ea typeface="a_Alter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solidFill>
                  <a:srgbClr val="a50021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_Alterna"/>
              </a:rPr>
              <a:t> </a:t>
            </a:r>
            <a:r>
              <a:rPr b="1" i="1" lang="en-US" sz="3200" spc="1" strike="noStrike">
                <a:ln w="0">
                  <a:noFill/>
                </a:ln>
                <a:solidFill>
                  <a:srgbClr val="a50021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_Alterna"/>
              </a:rPr>
              <a:t>математической</a:t>
            </a:r>
            <a:endParaRPr b="1" i="1" lang="en-US" sz="3200" spc="1" strike="noStrike">
              <a:ln w="0">
                <a:noFill/>
              </a:ln>
              <a:solidFill>
                <a:srgbClr val="a50021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_Alterna"/>
              <a:ea typeface="a_Alter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solidFill>
                  <a:srgbClr val="a50021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_Alterna"/>
              </a:rPr>
              <a:t> </a:t>
            </a:r>
            <a:r>
              <a:rPr b="1" i="1" lang="en-US" sz="3200" spc="1" strike="noStrike">
                <a:ln w="0">
                  <a:noFill/>
                </a:ln>
                <a:solidFill>
                  <a:srgbClr val="a50021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_Alterna"/>
              </a:rPr>
              <a:t>логики</a:t>
            </a:r>
            <a:endParaRPr b="1" i="1" lang="en-US" sz="3200" spc="1" strike="noStrike">
              <a:ln w="0">
                <a:noFill/>
              </a:ln>
              <a:solidFill>
                <a:srgbClr val="a50021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_Alterna"/>
              <a:ea typeface="a_Alter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0"/>
          <p:cNvSpPr txBox="1"/>
          <p:nvPr/>
        </p:nvSpPr>
        <p:spPr>
          <a:xfrm>
            <a:off x="395280" y="2349360"/>
            <a:ext cx="8353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5050"/>
                    </a:gs>
                  </a:gsLst>
                  <a:lin ang="5400000"/>
                </a:gradFill>
                <a:latin typeface="Impact"/>
              </a:rPr>
              <a:t>формулы алгебры лог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505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Bauhaus-Heavy"/>
              </a:rPr>
              <a:t>Равносильные формулы</a:t>
            </a:r>
            <a:endParaRPr b="0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1280" y="1628280"/>
            <a:ext cx="40384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575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a50021"/>
                </a:solidFill>
                <a:latin typeface="Arial"/>
              </a:rPr>
              <a:t>Две формулы А и В равносильны, если они принимают одинаковые логические значения на любом наборе входящих формулы элементарных высказываний.</a:t>
            </a:r>
            <a:endParaRPr b="0" lang="en-US" sz="23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859280" y="393372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А называется тождественно истинным высказыванием, если она принимает значение единицы при любом значении входящих переменных.</a:t>
            </a:r>
            <a:endParaRPr b="0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788000" y="162828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А называется тождественно ложной, если принимает значение нуля, при всех значениях входящих в неё переменных.</a:t>
            </a:r>
            <a:endParaRPr b="0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55640" y="443664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1. А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≡В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457200" indent="-457200">
              <a:lnSpc>
                <a:spcPct val="5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   3.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457200" indent="-457200">
              <a:lnSpc>
                <a:spcPct val="5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≡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457200" indent="-457200"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457200" indent="-457200">
              <a:lnSpc>
                <a:spcPct val="5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0" y="1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49536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8"/>
          <p:cNvSpPr/>
          <p:nvPr/>
        </p:nvSpPr>
        <p:spPr>
          <a:xfrm>
            <a:off x="495360" y="50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9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10"/>
              <p:cNvSpPr txBox="1"/>
              <p:nvPr/>
            </p:nvSpPr>
            <p:spPr>
              <a:xfrm>
                <a:off x="2340000" y="4653000"/>
                <a:ext cx="2133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∧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  <m:r>
                      <m:t xml:space="preserve">∨</m:t>
                    </m:r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Bauhaus-Heavy"/>
              </a:rPr>
              <a:t>Основные равносильности алгебры логики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5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6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916360" y="162864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7.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закон противоречия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8.                 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закон исключенного третьего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9.            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закон снятия двойного отрицания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10.а)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                              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законы поглощения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в)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1"/>
              <p:cNvSpPr txBox="1"/>
              <p:nvPr/>
            </p:nvSpPr>
            <p:spPr>
              <a:xfrm>
                <a:off x="755640" y="1700280"/>
                <a:ext cx="155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x</m:t>
                    </m:r>
                    <m:r>
                      <m:t xml:space="preserve">≡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Rectangle 13"/>
          <p:cNvSpPr/>
          <p:nvPr/>
        </p:nvSpPr>
        <p:spPr>
          <a:xfrm>
            <a:off x="0" y="78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10"/>
              <p:cNvSpPr txBox="1"/>
              <p:nvPr/>
            </p:nvSpPr>
            <p:spPr>
              <a:xfrm>
                <a:off x="826920" y="2205000"/>
                <a:ext cx="155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x</m:t>
                    </m:r>
                    <m:r>
                      <m:t xml:space="preserve">≡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Rectangle 14"/>
          <p:cNvSpPr/>
          <p:nvPr/>
        </p:nvSpPr>
        <p:spPr>
          <a:xfrm>
            <a:off x="0" y="92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9"/>
              <p:cNvSpPr txBox="1"/>
              <p:nvPr/>
            </p:nvSpPr>
            <p:spPr>
              <a:xfrm>
                <a:off x="826920" y="2637000"/>
                <a:ext cx="14036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1</m:t>
                    </m:r>
                    <m:r>
                      <m:t xml:space="preserve">≡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Rectangle 15"/>
          <p:cNvSpPr/>
          <p:nvPr/>
        </p:nvSpPr>
        <p:spPr>
          <a:xfrm>
            <a:off x="0" y="1268280"/>
            <a:ext cx="184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8"/>
              <p:cNvSpPr txBox="1"/>
              <p:nvPr/>
            </p:nvSpPr>
            <p:spPr>
              <a:xfrm>
                <a:off x="826920" y="3141720"/>
                <a:ext cx="13096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1</m:t>
                    </m:r>
                    <m:r>
                      <m:t xml:space="preserve">≡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Rectangle 16"/>
          <p:cNvSpPr/>
          <p:nvPr/>
        </p:nvSpPr>
        <p:spPr>
          <a:xfrm>
            <a:off x="0" y="128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7"/>
              <p:cNvSpPr txBox="1"/>
              <p:nvPr/>
            </p:nvSpPr>
            <p:spPr>
              <a:xfrm>
                <a:off x="826920" y="3645000"/>
                <a:ext cx="145764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x</m:t>
                    </m:r>
                    <m:r>
                      <m:t xml:space="preserve">≡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Rectangle 17"/>
          <p:cNvSpPr/>
          <p:nvPr/>
        </p:nvSpPr>
        <p:spPr>
          <a:xfrm>
            <a:off x="325440" y="980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826920" y="4149720"/>
            <a:ext cx="1457640" cy="4525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0"/>
              <p:cNvSpPr txBox="1"/>
              <p:nvPr/>
            </p:nvSpPr>
            <p:spPr>
              <a:xfrm>
                <a:off x="3348000" y="1557360"/>
                <a:ext cx="13971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∧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≡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2"/>
              <p:cNvSpPr txBox="1"/>
              <p:nvPr/>
            </p:nvSpPr>
            <p:spPr>
              <a:xfrm>
                <a:off x="3348000" y="2060640"/>
                <a:ext cx="13492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∨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≡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3348000" y="2637000"/>
                <a:ext cx="2840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00" name="Rectangle 8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5"/>
              <p:cNvSpPr txBox="1"/>
              <p:nvPr/>
            </p:nvSpPr>
            <p:spPr>
              <a:xfrm>
                <a:off x="3635280" y="2852640"/>
                <a:ext cx="29844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2" name="Rectangle 9"/>
          <p:cNvSpPr/>
          <p:nvPr/>
        </p:nvSpPr>
        <p:spPr>
          <a:xfrm>
            <a:off x="0" y="3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4067280" y="2852640"/>
                <a:ext cx="2775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10"/>
          <p:cNvSpPr/>
          <p:nvPr/>
        </p:nvSpPr>
        <p:spPr>
          <a:xfrm>
            <a:off x="720" y="484920"/>
            <a:ext cx="26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13"/>
              <p:cNvSpPr txBox="1"/>
              <p:nvPr/>
            </p:nvSpPr>
            <p:spPr>
              <a:xfrm>
                <a:off x="3851280" y="3213000"/>
                <a:ext cx="22604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∨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Rectangle 1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5"/>
              <p:cNvSpPr txBox="1"/>
              <p:nvPr/>
            </p:nvSpPr>
            <p:spPr>
              <a:xfrm>
                <a:off x="3995640" y="4292640"/>
                <a:ext cx="22608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∧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Bauhaus-Heavy"/>
              </a:rPr>
              <a:t>Равносильности выражающие одни логические функции через другие</a:t>
            </a:r>
            <a:r>
              <a:rPr b="1" lang="ru-RU" sz="3200" spc="-1" strike="noStrike">
                <a:solidFill>
                  <a:srgbClr val="6600cc"/>
                </a:solidFill>
                <a:latin typeface="Bauhaus-Heavy"/>
              </a:rPr>
              <a:t>	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00" y="21967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8"/>
              <p:cNvSpPr txBox="1"/>
              <p:nvPr/>
            </p:nvSpPr>
            <p:spPr>
              <a:xfrm>
                <a:off x="2340000" y="1628640"/>
                <a:ext cx="45133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↔</m:t>
                    </m:r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Rectangle 10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2340000" y="2133720"/>
                <a:ext cx="23637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∨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Rectangle 11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6"/>
              <p:cNvSpPr txBox="1"/>
              <p:nvPr/>
            </p:nvSpPr>
            <p:spPr>
              <a:xfrm>
                <a:off x="2340000" y="2708280"/>
                <a:ext cx="22017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  <m:r>
                          <m:t xml:space="preserve">∧</m:t>
                        </m:r>
                        <m:r>
                          <m:t xml:space="preserve">y</m:t>
                        </m:r>
                      </m:e>
                    </m:ba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∨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7" name="Rectangle 12"/>
          <p:cNvSpPr/>
          <p:nvPr/>
        </p:nvSpPr>
        <p:spPr>
          <a:xfrm>
            <a:off x="0" y="35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5"/>
              <p:cNvSpPr txBox="1"/>
              <p:nvPr/>
            </p:nvSpPr>
            <p:spPr>
              <a:xfrm>
                <a:off x="2340000" y="3284640"/>
                <a:ext cx="22017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  <m:r>
                          <m:t xml:space="preserve">∨</m:t>
                        </m:r>
                        <m:r>
                          <m:t xml:space="preserve">y</m:t>
                        </m:r>
                      </m:e>
                    </m:ba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∧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9" name="Rectangle 13"/>
          <p:cNvSpPr/>
          <p:nvPr/>
        </p:nvSpPr>
        <p:spPr>
          <a:xfrm>
            <a:off x="0" y="375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2340000" y="3860640"/>
                <a:ext cx="20541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y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∨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21" name="Rectangle 14"/>
          <p:cNvSpPr/>
          <p:nvPr/>
        </p:nvSpPr>
        <p:spPr>
          <a:xfrm>
            <a:off x="1800" y="4019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5"/>
              <p:cNvSpPr txBox="1"/>
              <p:nvPr/>
            </p:nvSpPr>
            <p:spPr>
              <a:xfrm>
                <a:off x="2340000" y="4437000"/>
                <a:ext cx="20541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y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∧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cc"/>
                </a:solidFill>
                <a:latin typeface="Bauhaus-Heavy"/>
              </a:rPr>
              <a:t>Равносильности выражающие основные законы алгебры логики</a:t>
            </a:r>
            <a:endParaRPr b="0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37400" indent="-437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1.                                                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законы коммутативности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437400" indent="-437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437400" indent="-437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3.                                              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закон ассоциативности конъюнкции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437400" indent="-437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4.                                              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закон ассоциативности дизъюнкции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437400" indent="-437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437400" indent="-437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6.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lvl="4" marL="1780920" indent="-281160">
              <a:spcBef>
                <a:spcPts val="451"/>
              </a:spcBef>
              <a:buClr>
                <a:srgbClr val="a50021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lvl="4" marL="1780920" indent="-281160">
              <a:buClr>
                <a:srgbClr val="a50021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437400" indent="-437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437400" indent="-437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4724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Итак, алгебра-логика обладает коммутативными и ассоциативными законами относительно операции конъюнкции и дизъюнкции и дистрибутивным законом конъюнкции относительно дизъюнкции.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1800" y="1501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1"/>
              <p:cNvSpPr txBox="1"/>
              <p:nvPr/>
            </p:nvSpPr>
            <p:spPr>
              <a:xfrm>
                <a:off x="900000" y="1628640"/>
                <a:ext cx="24480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y</m:t>
                    </m:r>
                    <m:r>
                      <m:t xml:space="preserve">∧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Rectangle 13"/>
          <p:cNvSpPr/>
          <p:nvPr/>
        </p:nvSpPr>
        <p:spPr>
          <a:xfrm>
            <a:off x="0" y="2116080"/>
            <a:ext cx="184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10"/>
              <p:cNvSpPr txBox="1"/>
              <p:nvPr/>
            </p:nvSpPr>
            <p:spPr>
              <a:xfrm>
                <a:off x="900000" y="1989000"/>
                <a:ext cx="24861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y</m:t>
                    </m:r>
                    <m:r>
                      <m:t xml:space="preserve">∨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Rectangle 14"/>
          <p:cNvSpPr/>
          <p:nvPr/>
        </p:nvSpPr>
        <p:spPr>
          <a:xfrm>
            <a:off x="2160" y="2512080"/>
            <a:ext cx="39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9"/>
              <p:cNvSpPr txBox="1"/>
              <p:nvPr/>
            </p:nvSpPr>
            <p:spPr>
              <a:xfrm>
                <a:off x="900000" y="2421000"/>
                <a:ext cx="38829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∧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Rectangle 15"/>
          <p:cNvSpPr/>
          <p:nvPr/>
        </p:nvSpPr>
        <p:spPr>
          <a:xfrm>
            <a:off x="70560" y="3261600"/>
            <a:ext cx="2336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8"/>
              <p:cNvSpPr txBox="1"/>
              <p:nvPr/>
            </p:nvSpPr>
            <p:spPr>
              <a:xfrm>
                <a:off x="900000" y="2852640"/>
                <a:ext cx="38433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∨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Rectangle 16"/>
          <p:cNvSpPr/>
          <p:nvPr/>
        </p:nvSpPr>
        <p:spPr>
          <a:xfrm>
            <a:off x="4789440" y="3384360"/>
            <a:ext cx="2235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7"/>
              <p:cNvSpPr txBox="1"/>
              <p:nvPr/>
            </p:nvSpPr>
            <p:spPr>
              <a:xfrm>
                <a:off x="900000" y="3357720"/>
                <a:ext cx="472932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∨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Rectangle 17"/>
          <p:cNvSpPr/>
          <p:nvPr/>
        </p:nvSpPr>
        <p:spPr>
          <a:xfrm>
            <a:off x="0" y="462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900000" y="3789360"/>
                <a:ext cx="47293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∧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Rectangle 18"/>
          <p:cNvSpPr/>
          <p:nvPr/>
        </p:nvSpPr>
        <p:spPr>
          <a:xfrm>
            <a:off x="1800" y="48758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6600cc"/>
                </a:solidFill>
                <a:latin typeface="Arial"/>
              </a:rPr>
              <a:t>Логика высказываний</a:t>
            </a:r>
            <a:br>
              <a:rPr sz="4000"/>
            </a:br>
            <a:endParaRPr b="0" lang="en-US" sz="40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Высказывания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Истинность высказывания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Операции над высказываниями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Дизъюнкция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Конъюнкция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Импликация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Эквиваленция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Штрих Шеффера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Штрих Лукасевича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Bauhaus-Heavy"/>
              </a:rPr>
              <a:t>КОНЪЮНКЦИЯ:</a:t>
            </a:r>
            <a:r>
              <a:rPr b="0" lang="ru-RU" sz="2800" spc="-1" strike="noStrike">
                <a:solidFill>
                  <a:srgbClr val="6600cc"/>
                </a:solidFill>
                <a:latin typeface="Bauhaus-Heavy"/>
              </a:rPr>
              <a:t> бинарное</a:t>
            </a:r>
            <a:br>
              <a:rPr sz="2800"/>
            </a:b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356000" y="1600200"/>
          <a:ext cx="4248360" cy="4443480"/>
        </p:xfrm>
        <a:graphic>
          <a:graphicData uri="http://schemas.openxmlformats.org/drawingml/2006/table">
            <a:tbl>
              <a:tblPr/>
              <a:tblGrid>
                <a:gridCol w="1416240"/>
                <a:gridCol w="1415880"/>
                <a:gridCol w="1416240"/>
              </a:tblGrid>
              <a:tr h="19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 </a:t>
                      </a:r>
                      <a:r>
                        <a:rPr b="0" lang="en-US" sz="8000" spc="-1" strike="noStrike" baseline="-25000">
                          <a:solidFill>
                            <a:srgbClr val="a50021"/>
                          </a:solidFill>
                          <a:latin typeface="Arial"/>
                        </a:rPr>
                        <a:t>^</a:t>
                      </a:r>
                      <a:r>
                        <a:rPr b="0" lang="en-US" sz="4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 txBox="1"/>
          <p:nvPr/>
        </p:nvSpPr>
        <p:spPr>
          <a:xfrm>
            <a:off x="468360" y="1628640"/>
            <a:ext cx="361008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Обозначается: </a:t>
            </a:r>
            <a:r>
              <a:rPr b="0" lang="en-US" sz="8000" spc="-1" strike="noStrike" baseline="-25000">
                <a:solidFill>
                  <a:srgbClr val="a50021"/>
                </a:solidFill>
                <a:latin typeface="Arial"/>
              </a:rPr>
              <a:t>^</a:t>
            </a:r>
            <a:endParaRPr b="0" lang="en-US" sz="8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185000"/>
              </a:lnSpc>
              <a:spcBef>
                <a:spcPts val="799"/>
              </a:spcBef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a50021"/>
                </a:solidFill>
                <a:latin typeface="Arial"/>
              </a:rPr>
              <a:t>(логическое умножение, операция «и»)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3600" spc="-1" strike="noStrike">
                <a:solidFill>
                  <a:srgbClr val="6600cc"/>
                </a:solidFill>
                <a:latin typeface="Bauhaus-Heavy"/>
              </a:rPr>
              <a:t>ТАБЛИЦЫ </a:t>
            </a:r>
            <a:r>
              <a:rPr b="1" lang="ru-RU" sz="3200" spc="-1" strike="noStrike">
                <a:solidFill>
                  <a:srgbClr val="6600cc"/>
                </a:solidFill>
                <a:latin typeface="Bauhaus-Heavy"/>
              </a:rPr>
              <a:t>ИСТИННОСТИ</a:t>
            </a:r>
            <a:r>
              <a:rPr b="1" lang="ru-RU" sz="3600" spc="-1" strike="noStrike">
                <a:solidFill>
                  <a:srgbClr val="6600cc"/>
                </a:solidFill>
                <a:latin typeface="Bauhaus-Heavy"/>
              </a:rPr>
              <a:t>. СВОЙСТВА</a:t>
            </a:r>
            <a:br>
              <a:rPr sz="2400"/>
            </a:br>
            <a:r>
              <a:rPr b="1" lang="ru-RU" sz="2800" spc="-1" strike="noStrike">
                <a:solidFill>
                  <a:srgbClr val="6600cc"/>
                </a:solidFill>
                <a:latin typeface="Bauhaus-Heavy"/>
              </a:rPr>
              <a:t>ОТРИЦАНИЕ: унарное </a:t>
            </a:r>
            <a:br>
              <a:rPr sz="2800"/>
            </a:b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916280"/>
            <a:ext cx="4762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Высказывание это: любое предложение, утверждающее что-либо, при этом всегда можно сказать истинно оно или ложно, в данном месте в данное время.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1-истина (и,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true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0-ложь (,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false)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Высказывание, получаемое из элементарных с помощью связок: не, и, или, если то, тогда и только тогда - называются сложными или составными.  Ни одно высказывание не может быть одновременно истинным или ложным. 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03280" y="1600200"/>
            <a:ext cx="39610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ример: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x 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x (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враг моего врага мой друг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                               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Двойное отрицание -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796000" y="3938760"/>
          <a:ext cx="2890800" cy="2220840"/>
        </p:xfrm>
        <a:graphic>
          <a:graphicData uri="http://schemas.openxmlformats.org/drawingml/2006/table">
            <a:tbl>
              <a:tblPr/>
              <a:tblGrid>
                <a:gridCol w="1446120"/>
                <a:gridCol w="1444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Bauhaus-Heavy"/>
              </a:rPr>
              <a:t>ДИЗЪЮНКЦИЯ</a:t>
            </a:r>
            <a:endParaRPr b="0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Обозначается: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V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(логическое сложение, операция «или»)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70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48320" y="1600200"/>
          <a:ext cx="4038480" cy="456552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7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 </a:t>
                      </a: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  <a:ea typeface="Arial"/>
                        </a:rPr>
                        <a:t>V</a:t>
                      </a:r>
                      <a:r>
                        <a:rPr b="1" lang="ru-RU" sz="3200" spc="-1" strike="noStrike">
                          <a:solidFill>
                            <a:srgbClr val="a50021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4" name="Object 86"/>
              <p:cNvSpPr txBox="1"/>
              <p:nvPr/>
            </p:nvSpPr>
            <p:spPr>
              <a:xfrm>
                <a:off x="6564240" y="4645080"/>
                <a:ext cx="2048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Bauhaus-Heavy"/>
              </a:rPr>
              <a:t>ИМПЛИКАЦИЯ</a:t>
            </a:r>
            <a:r>
              <a:rPr b="0" lang="ru-RU" sz="4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Обозначается: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(Импликация двух высказываний </a:t>
            </a:r>
            <a:r>
              <a:rPr b="0" i="1" lang="en-US" sz="28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a50021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 которое ложно,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если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истина, а </a:t>
            </a:r>
            <a:r>
              <a:rPr b="0" i="1" lang="en-US" sz="2800" spc="-1" strike="noStrike">
                <a:solidFill>
                  <a:srgbClr val="a50021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ложно, и истина во всех остальных случаях)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7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 </a:t>
                      </a: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Bauhaus-Heavy"/>
              </a:rPr>
              <a:t>Эквиваленция</a:t>
            </a:r>
            <a:endParaRPr b="0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Обозначается: </a:t>
            </a: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X </a:t>
            </a:r>
            <a:r>
              <a:rPr b="1" lang="en-US" sz="2500" spc="-1" strike="noStrike">
                <a:solidFill>
                  <a:srgbClr val="a50021"/>
                </a:solidFill>
                <a:latin typeface="Arial"/>
                <a:ea typeface="Arial"/>
              </a:rPr>
              <a:t>↔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Y</a:t>
            </a:r>
            <a:endParaRPr b="0" lang="en-US" sz="25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Эквиваленция двух высказываний 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и 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,это новое высказывание, это истина когда оба высказывания одновременно истина и одновременно ложь, и ложь в остальных других случаях)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7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 </a:t>
                      </a: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  <a:ea typeface="Arial"/>
                        </a:rPr>
                        <a:t>↔</a:t>
                      </a: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Bauhaus-Heavy"/>
              </a:rPr>
              <a:t>Штрих Шеффера:</a:t>
            </a:r>
            <a:endParaRPr b="0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Обозначается: </a:t>
            </a: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X </a:t>
            </a:r>
            <a:r>
              <a:rPr b="1" lang="ru-RU" sz="2500" spc="-1" strike="noStrike">
                <a:solidFill>
                  <a:srgbClr val="a50021"/>
                </a:solidFill>
                <a:latin typeface="Arial"/>
              </a:rPr>
              <a:t>/</a:t>
            </a: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Y</a:t>
            </a:r>
            <a:endParaRPr b="0" lang="en-US" sz="25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ысказывание, которое ложно только тогда, когда оба высказывания истина)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7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 </a:t>
                      </a:r>
                      <a:r>
                        <a:rPr b="1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/</a:t>
                      </a: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Bauhaus-Heavy"/>
              </a:rPr>
              <a:t>Штрих Лукасевича</a:t>
            </a:r>
            <a:endParaRPr b="0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Обозначение: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↓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(высказывание, которое истина в одном случае, когда оба высказывания ложно)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48320" y="1600200"/>
          <a:ext cx="4038480" cy="442260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6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 </a:t>
                      </a:r>
                      <a:r>
                        <a:rPr b="1" lang="en-US" sz="3600" spc="-1" strike="noStrike">
                          <a:solidFill>
                            <a:srgbClr val="a50021"/>
                          </a:solidFill>
                          <a:latin typeface="Arial"/>
                          <a:ea typeface="Arial"/>
                        </a:rPr>
                        <a:t>↓</a:t>
                      </a: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2T09:28:04Z</dcterms:created>
  <dc:creator>magic friend</dc:creator>
  <dc:description/>
  <dc:language>en-US</dc:language>
  <cp:lastModifiedBy>I</cp:lastModifiedBy>
  <dcterms:modified xsi:type="dcterms:W3CDTF">2020-08-27T07:26:32Z</dcterms:modified>
  <cp:revision>10</cp:revision>
  <dc:subject/>
  <dc:title>ЭЛЕМЕНТЫ МАТЕМАТИЧЕСКОЙ ЛОГИКИ</dc:title>
</cp:coreProperties>
</file>